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9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72656-B1E2-41D2-ACC3-9651C76D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B70A8-A00B-4904-9237-6FF8F2B7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3C27F-7289-49D3-97A3-A875B666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9D5A9-DDA7-4390-A03C-3F63B27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CCA4C-1D00-4E63-AD98-E2104C2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EEB4F-FD1C-4F57-B6BD-ABEA9B6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DD967-72FD-4EA5-83A7-D8837A9A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15115-10B8-4D62-ACEB-7883E344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14A1D-B31B-4412-B236-D0BD0EBA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F32AF-B615-4AC8-922C-89691C7D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442EB-8379-45E4-9128-B9447C48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F9CDF-5A24-4EFF-960C-41E935D2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46E33-D739-4BDC-9606-F0273A07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D3F60-0CB1-440B-8E72-272C87D7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74D00-7066-4E21-9C30-ADABC77D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13BDA-C1B0-4D46-98F5-BECAF57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3DD3F-C07B-49E9-B437-85EF1E4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C5EBA-D8A7-4990-BC5C-A2D4DBB0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61972-5225-47FC-81B9-60042C14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37FB7-08CA-44EC-83B9-D97743D2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24C3C-0179-4616-A91F-BC117BD2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04D6B-DAC4-40C4-8F55-864C342D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0A548-C606-41DF-A63F-A3F0957A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364DF-E91C-4FB9-8D64-6058B592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05896-8584-4423-B451-CD7CAD3D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676EC-DD89-48C1-B359-6B3C9778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2D418-5769-4CAB-8CE9-7D3800D8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9F306-589C-4DB2-9C31-5142C57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7C449-3D78-42CF-94D1-91FD6930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0CFEB-C58E-4C64-89AD-E2687BE0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82B-E614-4494-9753-E850D1BF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6E494-76D0-4ADF-A5F6-954384E9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8EC0B-A896-42B5-95ED-82B85207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A01EE-0004-46D5-A3AC-1FC53FC7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D5909-A908-43D6-B48D-70CA16A1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0D5CE-DED0-440D-8234-9A439F4E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1DC8C-19A4-42D2-BB53-B5605441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744C1-F786-445E-83FD-948EBC0D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C5BEB-FED7-4F2B-AAFA-69BAB5E1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34E27-2F45-44B1-95B8-60A41CAC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9B903-8867-450F-9583-0A1EC6B1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82D-E198-40DC-824D-E614A80B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332DE-7742-4827-AD00-FDE7D0D4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9D606-E9E9-4B0E-BC76-07D92A9C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F1EF2-82C7-4B6B-8BAE-DD9CBA1E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F2B18-5776-4B09-A92F-27A27499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9539C-7858-4FDC-8E94-05F52267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0EB-10A8-473A-8A49-7310AF81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274-C83C-4486-B011-175EFE63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0E4-0633-4EF1-8C88-8FCD5D50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723-304B-4104-B65B-48B0F940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556-619B-4743-ABDE-35540D9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CB6-C546-4929-A389-D6A0793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C25-F4E8-436C-BC00-60DF79E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D13-5DE6-420B-8F09-84AF6240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624-16EA-4CCC-A03B-99A6A1CB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B5C-F34F-4794-AA63-77A86A8F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EC3-2D9B-49AB-908D-8CFB3337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C19E-AE35-4709-B6B9-86954187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EF7B-A2A3-4011-BE60-F5CFBCAB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A5CE-E12D-4A84-A796-18B10312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5FD3-A5CC-4B09-BCA5-FE8BF21E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98D4-E3E9-465E-B0AE-DEAB4BB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FACA-DAAF-40B5-861D-5D74B9EB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45DF-2F1F-4264-AABD-D8AB5942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FEEB-2A2A-4C4E-B78B-45B636E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0DF7-7C58-4884-AF21-1D4900C4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6AAA-46B9-4186-A673-5C472538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A44B-B72A-46FA-88CA-E8DCA67B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173D-9748-4283-921F-203F7CD1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DF80-E22C-4C22-8BE0-7254183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8692-3AE4-4B9D-B677-7067E90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0782-4C0E-422E-9D7F-5CA86A3A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19F7-AE1C-4E8B-BB3D-A0794F02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16F5-5BF0-4B7D-8651-897B2930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5CE4-5AB3-453B-BB97-78CABF3C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59F4-10CE-4D1D-9749-94E6DD9A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7703-4512-4315-A1F8-4DC0411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9AB4-8EF9-4115-80A9-0D666EE6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1E95-3360-450F-94B3-4251D086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88CB-376D-4A4C-BF4A-15CFA1CB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7FFA4-3F8E-442C-9923-BF39DDB4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40FC-FB7B-40A5-AAE9-C0D51C63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7621-6AAD-46A8-975F-613B75D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3856-A8BD-4CC3-82AB-4D6BAFDF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45F2-5CEA-48E1-A6AE-805FBAC5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26FE2-5C49-4333-883C-8C6D9F79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BC774-D4F4-4F8E-B066-C04D323F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7B01-9A90-4B4B-B197-ADF6273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305D-A45B-45A6-B816-BFDB3BF1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C6AF9-86E3-4DA2-973D-E7014369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8892-BFE2-491D-AB24-C014F8FD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D50C-7C41-4A59-B05E-E0A3F7F9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C6615-3F66-4C4D-B8F6-840D5487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B3A84-40A2-4007-AF52-39F8DAF3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DCC0-46AD-4B6C-9FDC-9760496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33E3-280D-4D6A-BEF3-36DA834A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D1D0-EF46-49BD-BD3D-CCDE3A1C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DF29A-5FDE-436C-BC4D-E7D62C09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3C4D-351F-4C88-B895-27E21668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4760-9432-4B8E-8C3E-94D63FA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2CDA-F4CA-4178-BA22-7ED31D6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1B91-8231-4254-A5F2-15D6E998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F952-3670-42A5-B338-F2F62E5F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2757-473B-4223-B20A-953F9291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5BF9C-2601-442E-9A61-4FF1A96C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634BE-9E40-4DBC-8951-354E7227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47E3F-DE2F-48EB-9C23-1FBCBC18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196FA-1A4A-423A-843B-358599F4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611F7-24CF-4471-BA15-B1242305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43802-D35C-4F85-AD48-06EC0902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0B7BE-3624-452A-A16F-097A37A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BC86D-0CC2-4DC2-81B3-21051F25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B8877-8D2A-4601-A4DA-D938303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0FC0B-8216-4747-B1BD-1E4F60B9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F9BE6-CED0-491B-8E60-6C922100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F729-B196-4F3C-AD0A-0CC1E6D0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C564-C85A-4E13-9E14-FD109BD6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F6D37-3755-44F2-9007-C800358B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F436-D556-4A30-8007-E5DD8CF9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4A36D-F73E-450B-80EF-3F843032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6BFA-6229-42FE-9F9B-AB88F827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0F01B-8C84-480E-85BB-4D205633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92C5-1FE7-4E4A-9C60-3BA24315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3486-B010-491F-B17D-46767215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9805-2C4E-4CFF-9ADC-D215976B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F93DC-09A5-4D8C-9F60-CA16B9B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C960C-56AD-4BAE-B120-93D5028C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EFF63-4DCB-4CD4-951C-BB438805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21E7A-59D1-48D0-99BE-5738F55A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4D2D-3601-4D32-9515-98ADB886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676F3-1773-4657-86F2-F3F5A759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72AE-86D8-48AB-836D-E2B7A9E8CEC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33B3-6012-4F91-8275-9E9E3E46873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311C-99FE-4FDC-8135-12DEDB313B2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0365-1236-4412-946C-9BAE10FEF88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FD2-9C3D-4B4F-B590-0E8ADCD4D65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0DB5-94F2-4354-832C-2E9823F4BE3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39D2-9FF3-47AC-A780-74C30BCBB2A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CFE0-BA16-47DC-AE38-E74BB28760B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1BFE-079D-4990-8166-533EB17ECCE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1E62-93AC-4CB8-BE32-DE42D0A5C47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A54F-E8D7-4262-B5B8-7F749E0F36F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2050920" y="2276640"/>
            <a:ext cx="698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  <a:ea typeface="Arial"/>
              </a:rPr>
              <a:t>Intensification of maize-legume based systems in the semi-arid areas of Tanzania to increase farm productivity and improve farming natural resourc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5c29"/>
                </a:solidFill>
                <a:latin typeface="Calibri"/>
                <a:ea typeface="Calibri"/>
              </a:rPr>
              <a:t>Kimaro, A, Swai, E., Ganga Rao, NVRP and </a:t>
            </a:r>
            <a:r>
              <a:rPr b="1" lang="en-US" sz="2000" spc="-1" strike="noStrike" u="sng">
                <a:solidFill>
                  <a:srgbClr val="225c29"/>
                </a:solidFill>
                <a:uFillTx/>
                <a:latin typeface="Calibri"/>
                <a:ea typeface="Calibri"/>
              </a:rPr>
              <a:t>Okori,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traight Connector 5"/>
          <p:cNvSpPr/>
          <p:nvPr/>
        </p:nvSpPr>
        <p:spPr>
          <a:xfrm>
            <a:off x="1979640" y="2205000"/>
            <a:ext cx="4680" cy="228132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-12600" y="0"/>
            <a:ext cx="1635120" cy="68850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230040" y="6076800"/>
            <a:ext cx="4918320" cy="667080"/>
            <a:chOff x="230040" y="6076800"/>
            <a:chExt cx="4918320" cy="667080"/>
          </a:xfrm>
        </p:grpSpPr>
        <p:sp>
          <p:nvSpPr>
            <p:cNvPr id="530" name="Rectangle 1"/>
            <p:cNvSpPr/>
            <p:nvPr/>
          </p:nvSpPr>
          <p:spPr>
            <a:xfrm>
              <a:off x="230040" y="6076800"/>
              <a:ext cx="491832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1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341280" y="6144480"/>
              <a:ext cx="46954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Picture 8" descr="D:\Jobs 2013\ID and Visiting cards\Covers\G2.png"/>
          <p:cNvPicPr/>
          <p:nvPr/>
        </p:nvPicPr>
        <p:blipFill>
          <a:blip r:embed="rId2"/>
          <a:stretch/>
        </p:blipFill>
        <p:spPr>
          <a:xfrm>
            <a:off x="1258920" y="4724280"/>
            <a:ext cx="811080" cy="1332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H:\100MSDCF\DSC04291.JPG"/>
          <p:cNvPicPr/>
          <p:nvPr/>
        </p:nvPicPr>
        <p:blipFill>
          <a:blip r:embed="rId3"/>
          <a:stretch/>
        </p:blipFill>
        <p:spPr>
          <a:xfrm>
            <a:off x="324000" y="333360"/>
            <a:ext cx="2577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8"/>
          <p:cNvSpPr/>
          <p:nvPr/>
        </p:nvSpPr>
        <p:spPr>
          <a:xfrm>
            <a:off x="7020000" y="1916280"/>
            <a:ext cx="936720" cy="3168360"/>
          </a:xfrm>
          <a:prstGeom prst="rect">
            <a:avLst/>
          </a:prstGeom>
          <a:solidFill>
            <a:srgbClr val="bfbfb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7956720" y="1484280"/>
            <a:ext cx="1187280" cy="3600360"/>
          </a:xfrm>
          <a:prstGeom prst="rect">
            <a:avLst/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5651640" y="1844640"/>
            <a:ext cx="1368360" cy="32400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4284720" y="1844640"/>
            <a:ext cx="1366920" cy="3240000"/>
          </a:xfrm>
          <a:prstGeom prst="rect">
            <a:avLst/>
          </a:prstGeom>
          <a:solidFill>
            <a:srgbClr val="fdead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Experimental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19280" y="1052280"/>
            <a:ext cx="216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1 to inform investment options 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periment with options to underpin scaling up and out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productivity (new varieties- at scale), land use for livestock and poul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 land productivity (nutrient use, decrease degrad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ress house nutrition and food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08360" y="1389240"/>
            <a:ext cx="5526000" cy="3744720"/>
            <a:chOff x="3708360" y="1389240"/>
            <a:chExt cx="5526000" cy="3744720"/>
          </a:xfrm>
        </p:grpSpPr>
        <p:sp>
          <p:nvSpPr>
            <p:cNvPr id="667" name="TextBox 4"/>
            <p:cNvSpPr/>
            <p:nvPr/>
          </p:nvSpPr>
          <p:spPr>
            <a:xfrm>
              <a:off x="7948800" y="1389240"/>
              <a:ext cx="128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caling up and 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oup 5"/>
            <p:cNvGrpSpPr/>
            <p:nvPr/>
          </p:nvGrpSpPr>
          <p:grpSpPr>
            <a:xfrm>
              <a:off x="3708360" y="1685880"/>
              <a:ext cx="5166720" cy="3448080"/>
              <a:chOff x="3708360" y="1685880"/>
              <a:chExt cx="5166720" cy="3448080"/>
            </a:xfrm>
          </p:grpSpPr>
          <p:grpSp>
            <p:nvGrpSpPr>
              <p:cNvPr id="669" name="Group 7"/>
              <p:cNvGrpSpPr/>
              <p:nvPr/>
            </p:nvGrpSpPr>
            <p:grpSpPr>
              <a:xfrm>
                <a:off x="4293360" y="1685880"/>
                <a:ext cx="4581720" cy="2956680"/>
                <a:chOff x="4293360" y="1685880"/>
                <a:chExt cx="4581720" cy="2956680"/>
              </a:xfrm>
            </p:grpSpPr>
            <p:sp>
              <p:nvSpPr>
                <p:cNvPr id="670" name="Straight Connector 18"/>
                <p:cNvSpPr/>
                <p:nvPr/>
              </p:nvSpPr>
              <p:spPr>
                <a:xfrm>
                  <a:off x="4293360" y="4596840"/>
                  <a:ext cx="4581720" cy="45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Straight Connector 19"/>
                <p:cNvSpPr/>
                <p:nvPr/>
              </p:nvSpPr>
              <p:spPr>
                <a:xfrm flipV="1">
                  <a:off x="4293360" y="1685880"/>
                  <a:ext cx="0" cy="29059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Straight Connector 20"/>
                <p:cNvSpPr/>
                <p:nvPr/>
              </p:nvSpPr>
              <p:spPr>
                <a:xfrm>
                  <a:off x="4293360" y="3713760"/>
                  <a:ext cx="13827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Straight Connector 21"/>
                <p:cNvSpPr/>
                <p:nvPr/>
              </p:nvSpPr>
              <p:spPr>
                <a:xfrm>
                  <a:off x="5676120" y="3356280"/>
                  <a:ext cx="134604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Straight Connector 22"/>
                <p:cNvSpPr/>
                <p:nvPr/>
              </p:nvSpPr>
              <p:spPr>
                <a:xfrm>
                  <a:off x="7022520" y="2910240"/>
                  <a:ext cx="9255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Straight Connector 23"/>
                <p:cNvSpPr/>
                <p:nvPr/>
              </p:nvSpPr>
              <p:spPr>
                <a:xfrm>
                  <a:off x="7948080" y="1974600"/>
                  <a:ext cx="92700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Straight Connector 24"/>
                <p:cNvSpPr/>
                <p:nvPr/>
              </p:nvSpPr>
              <p:spPr>
                <a:xfrm>
                  <a:off x="5676120" y="3356280"/>
                  <a:ext cx="0" cy="3571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Straight Connector 25"/>
                <p:cNvSpPr/>
                <p:nvPr/>
              </p:nvSpPr>
              <p:spPr>
                <a:xfrm>
                  <a:off x="7022520" y="2910240"/>
                  <a:ext cx="9360" cy="44604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Straight Connector 26"/>
                <p:cNvSpPr/>
                <p:nvPr/>
              </p:nvSpPr>
              <p:spPr>
                <a:xfrm>
                  <a:off x="7948080" y="1974600"/>
                  <a:ext cx="0" cy="990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9" name="TextBox 8"/>
              <p:cNvSpPr/>
              <p:nvPr/>
            </p:nvSpPr>
            <p:spPr>
              <a:xfrm>
                <a:off x="4293360" y="3179160"/>
                <a:ext cx="13629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Calibri"/>
                  </a:rPr>
                  <a:t>Experimentation</a:t>
                </a:r>
                <a:endParaRPr b="0" lang="en-US" sz="1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Box 9"/>
              <p:cNvSpPr/>
              <p:nvPr/>
            </p:nvSpPr>
            <p:spPr>
              <a:xfrm>
                <a:off x="6993000" y="254124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caling-u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TextBox 10"/>
              <p:cNvSpPr/>
              <p:nvPr/>
            </p:nvSpPr>
            <p:spPr>
              <a:xfrm>
                <a:off x="5736600" y="289188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alid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Straight Connector 11"/>
              <p:cNvSpPr/>
              <p:nvPr/>
            </p:nvSpPr>
            <p:spPr>
              <a:xfrm>
                <a:off x="564840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Straight Connector 12"/>
              <p:cNvSpPr/>
              <p:nvPr/>
            </p:nvSpPr>
            <p:spPr>
              <a:xfrm>
                <a:off x="703116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Straight Connector 13"/>
              <p:cNvSpPr/>
              <p:nvPr/>
            </p:nvSpPr>
            <p:spPr>
              <a:xfrm>
                <a:off x="7979040" y="196524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TextBox 14"/>
              <p:cNvSpPr/>
              <p:nvPr/>
            </p:nvSpPr>
            <p:spPr>
              <a:xfrm rot="16200000">
                <a:off x="2932560" y="2872080"/>
                <a:ext cx="219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ncreasing resilience and productiv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TextBox 15"/>
              <p:cNvSpPr/>
              <p:nvPr/>
            </p:nvSpPr>
            <p:spPr>
              <a:xfrm>
                <a:off x="4473000" y="467280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Box 16"/>
              <p:cNvSpPr/>
              <p:nvPr/>
            </p:nvSpPr>
            <p:spPr>
              <a:xfrm>
                <a:off x="5736600" y="471024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TextBox 17"/>
              <p:cNvSpPr/>
              <p:nvPr/>
            </p:nvSpPr>
            <p:spPr>
              <a:xfrm>
                <a:off x="6939360" y="476568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TextBox 6"/>
            <p:cNvSpPr/>
            <p:nvPr/>
          </p:nvSpPr>
          <p:spPr>
            <a:xfrm>
              <a:off x="8142120" y="476568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ear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228"/>
                </a:solidFill>
                <a:latin typeface="Calibri"/>
              </a:rPr>
              <a:t>Summary of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nchmark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ying options for piloting and up-scaling into our intensification model are being d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varieti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d systems for up-and out-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igations into production enviro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rategic partnershi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irect implementers (contracted partners), and associate partners (critical partners non contractual partners) as well as community leadership are on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27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1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On-farm evaluation of improved legume &amp; cereals var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763640" y="907920"/>
          <a:ext cx="4680000" cy="5629320"/>
        </p:xfrm>
        <a:graphic>
          <a:graphicData uri="http://schemas.openxmlformats.org/drawingml/2006/table">
            <a:tbl>
              <a:tblPr/>
              <a:tblGrid>
                <a:gridCol w="1152720"/>
                <a:gridCol w="3527280"/>
              </a:tblGrid>
              <a:tr h="87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bility of new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Yield performance &amp; 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munity based seed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Groundnuts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igeon Pea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aize –especially QPM (OPV &amp; Hybri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Knowledge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esting and using most appropriat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cereals and legumes in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valuating suitability for intercrop, cover cr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7" descr="H:\photo_kongwa digital\Picture fr\P1010439.JPG"/>
          <p:cNvPicPr/>
          <p:nvPr/>
        </p:nvPicPr>
        <p:blipFill>
          <a:blip r:embed="rId1"/>
          <a:stretch/>
        </p:blipFill>
        <p:spPr>
          <a:xfrm>
            <a:off x="6443640" y="342900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"/>
          <p:cNvSpPr/>
          <p:nvPr/>
        </p:nvSpPr>
        <p:spPr>
          <a:xfrm>
            <a:off x="651672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crop Kogwa &amp; PVS at Moleti Kit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8" descr="H:\photo moleti ELIA\100OLYMP\P1010462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67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2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Integrated soil fertility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92360" y="836640"/>
          <a:ext cx="4354560" cy="5548320"/>
        </p:xfrm>
        <a:graphic>
          <a:graphicData uri="http://schemas.openxmlformats.org/drawingml/2006/table">
            <a:tbl>
              <a:tblPr/>
              <a:tblGrid>
                <a:gridCol w="1393920"/>
                <a:gridCol w="2960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limiting soil nutrients for crop production identif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in-organic fertilizer usage by farm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for use of intercropping to improve soils fertility and yield of introduced varieties develo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analysis for various soil nutrient replenish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9" name="Picture 4" descr="H:\100MSDCF\DSC04291.JPG"/>
          <p:cNvPicPr/>
          <p:nvPr/>
        </p:nvPicPr>
        <p:blipFill>
          <a:blip r:embed="rId1"/>
          <a:stretch/>
        </p:blipFill>
        <p:spPr>
          <a:xfrm>
            <a:off x="6084720" y="2205000"/>
            <a:ext cx="2936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7067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3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Land and water management (soil and water conservatio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692360" y="1268280"/>
          <a:ext cx="4103640" cy="5167440"/>
        </p:xfrm>
        <a:graphic>
          <a:graphicData uri="http://schemas.openxmlformats.org/drawingml/2006/table">
            <a:tbl>
              <a:tblPr/>
              <a:tblGrid>
                <a:gridCol w="1314360"/>
                <a:gridCol w="278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2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bet soil water conservation and erosion control  technologies validated for up-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to improve soils and water management develo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for soils and water managemen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2" name="Picture 4" descr="H:\photo_kongwa digital\Picture fr\P1010448.JPG"/>
          <p:cNvPicPr/>
          <p:nvPr/>
        </p:nvPicPr>
        <p:blipFill>
          <a:blip r:embed="rId1"/>
          <a:stretch/>
        </p:blipFill>
        <p:spPr>
          <a:xfrm>
            <a:off x="6084720" y="1197000"/>
            <a:ext cx="2495880" cy="2293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H:\photo_kongwa digital\Picture fr\P1010446.JPG"/>
          <p:cNvPicPr/>
          <p:nvPr/>
        </p:nvPicPr>
        <p:blipFill>
          <a:blip r:embed="rId2"/>
          <a:stretch/>
        </p:blipFill>
        <p:spPr>
          <a:xfrm>
            <a:off x="6084720" y="3500280"/>
            <a:ext cx="2519640" cy="20894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6"/>
          <p:cNvSpPr/>
          <p:nvPr/>
        </p:nvSpPr>
        <p:spPr>
          <a:xfrm>
            <a:off x="5940360" y="5805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mers examine a maize crop produced under improved manag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19280" y="6480"/>
            <a:ext cx="752472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3640" y="907920"/>
          <a:ext cx="3960720" cy="5367600"/>
        </p:xfrm>
        <a:graphic>
          <a:graphicData uri="http://schemas.openxmlformats.org/drawingml/2006/table">
            <a:tbl>
              <a:tblPr/>
              <a:tblGrid>
                <a:gridCol w="917640"/>
                <a:gridCol w="304308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5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itiveness of Pigeon pea as alternative protein crop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on maize Groundnuts, Pigeon pea, Bean bambara nuts &amp; sorghum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eness raising among partner on aflatox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ue chain for contamination po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7" name="Chart 5" descr=""/>
          <p:cNvPicPr/>
          <p:nvPr/>
        </p:nvPicPr>
        <p:blipFill>
          <a:blip r:embed="rId1"/>
          <a:stretch/>
        </p:blipFill>
        <p:spPr>
          <a:xfrm>
            <a:off x="5718240" y="974880"/>
            <a:ext cx="3627360" cy="31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17222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908000" y="1197000"/>
          <a:ext cx="6409080" cy="5184720"/>
        </p:xfrm>
        <a:graphic>
          <a:graphicData uri="http://schemas.openxmlformats.org/drawingml/2006/table">
            <a:tbl>
              <a:tblPr/>
              <a:tblGrid>
                <a:gridCol w="2065680"/>
                <a:gridCol w="434340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diagnostic platform at ARI Hombolo for the target area. (working with Selian 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ild capacity of ARI Hombolo and Selian to ID afla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activities for diagnostic platfor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efficiency of techniques together with T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1276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19280" y="1484280"/>
          <a:ext cx="7056360" cy="4697280"/>
        </p:xfrm>
        <a:graphic>
          <a:graphicData uri="http://schemas.openxmlformats.org/drawingml/2006/table">
            <a:tbl>
              <a:tblPr/>
              <a:tblGrid>
                <a:gridCol w="2274840"/>
                <a:gridCol w="4781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adequate supply of quality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existing species (Year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pagation studies for best bet species (Year 2&amp;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tudies on management option for semi arid areas (Year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1692360" y="148428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current management systems &amp; links to degradation &amp; feeds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Determine suitable livestock management systems for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nks to WP 2 an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rrying capacity of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Build capacity to manage best bet tech for poul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Recycling poultry to fer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1692360" y="90792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report highlight soil conditions and major constraints to SI in targe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ite condition of field sites targeted for on-farm trials evaluated and documented for M&amp;E and impacts assessmen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6: Characterization of sites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5760" y="233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4e25"/>
                </a:solidFill>
                <a:latin typeface="Calibri"/>
              </a:rPr>
              <a:t>Project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4979880" y="3433680"/>
            <a:ext cx="38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teto district is found in the Manyara reg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n estimated population of 152,7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892760" y="4905360"/>
            <a:ext cx="41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gwa Distric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s found in Dodoma Region. We are working in Mlali ward with a population of about 28,000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1"/>
          <a:stretch/>
        </p:blipFill>
        <p:spPr>
          <a:xfrm>
            <a:off x="158760" y="99540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"/>
          <p:cNvPicPr/>
          <p:nvPr/>
        </p:nvPicPr>
        <p:blipFill>
          <a:blip r:embed="rId2"/>
          <a:stretch/>
        </p:blipFill>
        <p:spPr>
          <a:xfrm>
            <a:off x="5311800" y="1152360"/>
            <a:ext cx="2838600" cy="22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39" name="Straight Arrow Connector 12"/>
          <p:cNvCxnSpPr/>
          <p:nvPr/>
        </p:nvCxnSpPr>
        <p:spPr>
          <a:xfrm flipH="1">
            <a:off x="2804400" y="2253960"/>
            <a:ext cx="2507400" cy="23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4"/>
          <p:cNvCxnSpPr>
            <a:stCxn id="536" idx="1"/>
          </p:cNvCxnSpPr>
          <p:nvPr/>
        </p:nvCxnSpPr>
        <p:spPr>
          <a:xfrm flipH="1" flipV="1">
            <a:off x="2340720" y="2726640"/>
            <a:ext cx="2552040" cy="264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96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4D innovation platfor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nvergence &amp; complementar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omplement of partners is fluid. Convergence of thrusts takes time and largely influence by extraneous fac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enchmanks are critical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&amp;D investment typologies are needed to implementation. (Helps to isolate Research from development issu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Intensification involves complex institutional and operational relationships. Limited understanding of what works and does not is critical for scaling up and design of appropriate interven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hampions for chang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hampions at community level are essential. This may compound design of evaluations because such people are usually targeted by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724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5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4"/>
          <a:srcRect l="0" t="0" r="17" b="34"/>
          <a:stretch/>
        </p:blipFill>
        <p:spPr>
          <a:xfrm>
            <a:off x="235080" y="4680"/>
            <a:ext cx="1990440" cy="4024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3952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755720" y="974880"/>
            <a:ext cx="69976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835280" y="836640"/>
            <a:ext cx="446544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Challenges to increased production/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Fragile farm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Erosion prone fa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ed land sc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soils fert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2. Degradative farming (crop/livestock) prac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Overgraz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mited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production potential varieties g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4. Local demand for legumes (consumption) is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3"/>
          <a:srcRect l="0" t="0" r="0" b="6178"/>
          <a:stretch/>
        </p:blipFill>
        <p:spPr>
          <a:xfrm>
            <a:off x="6300720" y="907920"/>
            <a:ext cx="2730600" cy="1619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poor maize field.jpg"/>
          <p:cNvPicPr/>
          <p:nvPr/>
        </p:nvPicPr>
        <p:blipFill>
          <a:blip r:embed="rId4"/>
          <a:srcRect l="0" t="14540" r="57622" b="0"/>
          <a:stretch/>
        </p:blipFill>
        <p:spPr>
          <a:xfrm>
            <a:off x="6300720" y="2565360"/>
            <a:ext cx="1295640" cy="1960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Users\user\Pictures\RESEARCH PICS GOATS\DSC00847.JPG"/>
          <p:cNvPicPr/>
          <p:nvPr/>
        </p:nvPicPr>
        <p:blipFill>
          <a:blip r:embed="rId5"/>
          <a:stretch/>
        </p:blipFill>
        <p:spPr>
          <a:xfrm>
            <a:off x="7667640" y="2637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6"/>
          <a:srcRect l="0" t="21045" r="0" b="-9374"/>
          <a:stretch/>
        </p:blipFill>
        <p:spPr>
          <a:xfrm>
            <a:off x="6227640" y="4581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7"/>
          <a:stretch/>
        </p:blipFill>
        <p:spPr>
          <a:xfrm>
            <a:off x="7667640" y="4508640"/>
            <a:ext cx="128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1835280" y="836640"/>
            <a:ext cx="43923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The Opportun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markets (Kibaigwa) local and outside of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Under good management potential for high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vestock is available (poultry, livestock) for food and man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Contribute to nutrition and crop productivity outcomes (leaverage other FTF programes TUBoreshe Chakula, NaFa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Management and yield enhancing technlogies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6443640" y="765000"/>
            <a:ext cx="2293920" cy="5740200"/>
            <a:chOff x="6443640" y="765000"/>
            <a:chExt cx="2293920" cy="5740200"/>
          </a:xfrm>
        </p:grpSpPr>
        <p:pic>
          <p:nvPicPr>
            <p:cNvPr id="560" name="Picture 3" descr="picture GN girl.jpg"/>
            <p:cNvPicPr/>
            <p:nvPr/>
          </p:nvPicPr>
          <p:blipFill>
            <a:blip r:embed="rId3"/>
            <a:stretch/>
          </p:blipFill>
          <p:spPr>
            <a:xfrm>
              <a:off x="6761160" y="765000"/>
              <a:ext cx="150012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1" descr="Ppea crop in the field.JPG"/>
            <p:cNvPicPr/>
            <p:nvPr/>
          </p:nvPicPr>
          <p:blipFill>
            <a:blip r:embed="rId4"/>
            <a:stretch/>
          </p:blipFill>
          <p:spPr>
            <a:xfrm>
              <a:off x="6761160" y="2000880"/>
              <a:ext cx="148572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4" descr=""/>
            <p:cNvPicPr/>
            <p:nvPr/>
          </p:nvPicPr>
          <p:blipFill>
            <a:blip r:embed="rId5"/>
            <a:stretch/>
          </p:blipFill>
          <p:spPr>
            <a:xfrm>
              <a:off x="6761160" y="3031200"/>
              <a:ext cx="14857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6" descr=""/>
            <p:cNvPicPr/>
            <p:nvPr/>
          </p:nvPicPr>
          <p:blipFill>
            <a:blip r:embed="rId6"/>
            <a:stretch/>
          </p:blipFill>
          <p:spPr>
            <a:xfrm>
              <a:off x="6761160" y="4129920"/>
              <a:ext cx="148572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" descr=""/>
            <p:cNvPicPr/>
            <p:nvPr/>
          </p:nvPicPr>
          <p:blipFill>
            <a:blip r:embed="rId7"/>
            <a:stretch/>
          </p:blipFill>
          <p:spPr>
            <a:xfrm>
              <a:off x="6761160" y="5077440"/>
              <a:ext cx="1528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2"/>
            <p:cNvSpPr/>
            <p:nvPr/>
          </p:nvSpPr>
          <p:spPr>
            <a:xfrm>
              <a:off x="6443640" y="6136920"/>
              <a:ext cx="22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M Mizengo Pind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92000" y="109440"/>
            <a:ext cx="698796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Africa RISING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692360" y="1155240"/>
            <a:ext cx="683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earch designed to test hypotheses that are linked to outputs and developmental outcomes identified by the Africa RISING program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-focused and demand driv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ities influenced by market demand, evolving policy environments, and changing social structures the needs of farm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ing that research outputs are targeted effectively to development needs and are feasible for target farm households to impl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ed at several levels wi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research outputs that are likely to be common across the program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erse research activities as guided by the individual projec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methods and tools to fit individual research activities and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aling will be at a pilot level  and beyond through the development of investment plans with development agenc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ontent Placeholder 3" descr=""/>
          <p:cNvPicPr/>
          <p:nvPr/>
        </p:nvPicPr>
        <p:blipFill>
          <a:blip r:embed="rId1"/>
          <a:stretch/>
        </p:blipFill>
        <p:spPr>
          <a:xfrm>
            <a:off x="1792440" y="3925800"/>
            <a:ext cx="7149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2000" y="31320"/>
            <a:ext cx="6994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Project Theory of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Group 54"/>
          <p:cNvGrpSpPr/>
          <p:nvPr/>
        </p:nvGrpSpPr>
        <p:grpSpPr>
          <a:xfrm>
            <a:off x="1743120" y="836640"/>
            <a:ext cx="7146720" cy="5693760"/>
            <a:chOff x="1743120" y="836640"/>
            <a:chExt cx="7146720" cy="5693760"/>
          </a:xfrm>
        </p:grpSpPr>
        <p:grpSp>
          <p:nvGrpSpPr>
            <p:cNvPr id="571" name="Group 4"/>
            <p:cNvGrpSpPr/>
            <p:nvPr/>
          </p:nvGrpSpPr>
          <p:grpSpPr>
            <a:xfrm>
              <a:off x="1743120" y="836640"/>
              <a:ext cx="7146720" cy="5693760"/>
              <a:chOff x="1743120" y="836640"/>
              <a:chExt cx="7146720" cy="5693760"/>
            </a:xfrm>
          </p:grpSpPr>
          <p:sp>
            <p:nvSpPr>
              <p:cNvPr id="572" name="Straight Connector 7"/>
              <p:cNvSpPr/>
              <p:nvPr/>
            </p:nvSpPr>
            <p:spPr>
              <a:xfrm>
                <a:off x="2216880" y="4380120"/>
                <a:ext cx="55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Straight Connector 8"/>
              <p:cNvSpPr/>
              <p:nvPr/>
            </p:nvSpPr>
            <p:spPr>
              <a:xfrm>
                <a:off x="2196720" y="2090160"/>
                <a:ext cx="55630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4" name="Group 9"/>
              <p:cNvGrpSpPr/>
              <p:nvPr/>
            </p:nvGrpSpPr>
            <p:grpSpPr>
              <a:xfrm>
                <a:off x="7964640" y="918720"/>
                <a:ext cx="925200" cy="3525480"/>
                <a:chOff x="7964640" y="918720"/>
                <a:chExt cx="925200" cy="3525480"/>
              </a:xfrm>
            </p:grpSpPr>
            <p:sp>
              <p:nvSpPr>
                <p:cNvPr id="575" name="Rectangle 49"/>
                <p:cNvSpPr/>
                <p:nvPr/>
              </p:nvSpPr>
              <p:spPr>
                <a:xfrm>
                  <a:off x="8128080" y="1498680"/>
                  <a:ext cx="641880" cy="985320"/>
                </a:xfrm>
                <a:prstGeom prst="rect">
                  <a:avLst/>
                </a:prstGeom>
                <a:solidFill>
                  <a:srgbClr val="c0504d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Rectangle 50"/>
                <p:cNvSpPr/>
                <p:nvPr/>
              </p:nvSpPr>
              <p:spPr>
                <a:xfrm rot="16200000">
                  <a:off x="7447680" y="3143880"/>
                  <a:ext cx="1959840" cy="64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933c">
                        <a:alpha val="80000"/>
                      </a:srgbClr>
                    </a:gs>
                    <a:gs pos="100000">
                      <a:srgbClr val="ffffff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Isosceles Triangle 51"/>
                <p:cNvSpPr/>
                <p:nvPr/>
              </p:nvSpPr>
              <p:spPr>
                <a:xfrm>
                  <a:off x="7964640" y="918720"/>
                  <a:ext cx="925200" cy="58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e5e5"/>
                    </a:gs>
                    <a:gs pos="100000">
                      <a:srgbClr val="ffa2a1"/>
                    </a:gs>
                  </a:gsLst>
                  <a:lin ang="54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TextBox 52"/>
                <p:cNvSpPr/>
                <p:nvPr/>
              </p:nvSpPr>
              <p:spPr>
                <a:xfrm rot="16200000">
                  <a:off x="7515720" y="3279960"/>
                  <a:ext cx="1775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fluenc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TextBox 53"/>
                <p:cNvSpPr/>
                <p:nvPr/>
              </p:nvSpPr>
              <p:spPr>
                <a:xfrm rot="16200000">
                  <a:off x="7649640" y="1623960"/>
                  <a:ext cx="15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teres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Group 10"/>
              <p:cNvGrpSpPr/>
              <p:nvPr/>
            </p:nvGrpSpPr>
            <p:grpSpPr>
              <a:xfrm>
                <a:off x="2265840" y="887400"/>
                <a:ext cx="5698440" cy="5643000"/>
                <a:chOff x="2265840" y="887400"/>
                <a:chExt cx="5698440" cy="5643000"/>
              </a:xfrm>
            </p:grpSpPr>
            <p:grpSp>
              <p:nvGrpSpPr>
                <p:cNvPr id="581" name="Group 14"/>
                <p:cNvGrpSpPr/>
                <p:nvPr/>
              </p:nvGrpSpPr>
              <p:grpSpPr>
                <a:xfrm>
                  <a:off x="2295360" y="5730480"/>
                  <a:ext cx="5668920" cy="799920"/>
                  <a:chOff x="2295360" y="5730480"/>
                  <a:chExt cx="5668920" cy="799920"/>
                </a:xfrm>
              </p:grpSpPr>
              <p:grpSp>
                <p:nvGrpSpPr>
                  <p:cNvPr id="582" name="Group 42"/>
                  <p:cNvGrpSpPr/>
                  <p:nvPr/>
                </p:nvGrpSpPr>
                <p:grpSpPr>
                  <a:xfrm>
                    <a:off x="2309400" y="5730840"/>
                    <a:ext cx="5654880" cy="799560"/>
                    <a:chOff x="2309400" y="5730840"/>
                    <a:chExt cx="5654880" cy="799560"/>
                  </a:xfrm>
                </p:grpSpPr>
                <p:sp>
                  <p:nvSpPr>
                    <p:cNvPr id="583" name="TextBox 44"/>
                    <p:cNvSpPr/>
                    <p:nvPr/>
                  </p:nvSpPr>
                  <p:spPr>
                    <a:xfrm>
                      <a:off x="2400480" y="5995080"/>
                      <a:ext cx="16354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l &amp; multidisciplinary approaches used to improve agricultural inno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4" name="TextBox 45"/>
                    <p:cNvSpPr/>
                    <p:nvPr/>
                  </p:nvSpPr>
                  <p:spPr>
                    <a:xfrm>
                      <a:off x="4179600" y="602496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ed M&amp;E and learning in place for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TextBox 46"/>
                    <p:cNvSpPr/>
                    <p:nvPr/>
                  </p:nvSpPr>
                  <p:spPr>
                    <a:xfrm>
                      <a:off x="6894000" y="6020280"/>
                      <a:ext cx="10702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m operations is at optimum and well suppo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TextBox 47"/>
                    <p:cNvSpPr/>
                    <p:nvPr/>
                  </p:nvSpPr>
                  <p:spPr>
                    <a:xfrm>
                      <a:off x="5536800" y="602028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uality staff motivated to work for project  su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TextBox 48"/>
                    <p:cNvSpPr/>
                    <p:nvPr/>
                  </p:nvSpPr>
                  <p:spPr>
                    <a:xfrm>
                      <a:off x="2309400" y="5730840"/>
                      <a:ext cx="276192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onditions among project partn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88" name="Rectangle 43"/>
                  <p:cNvSpPr/>
                  <p:nvPr/>
                </p:nvSpPr>
                <p:spPr>
                  <a:xfrm>
                    <a:off x="2295360" y="5730480"/>
                    <a:ext cx="566892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7d60a0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15"/>
                <p:cNvGrpSpPr/>
                <p:nvPr/>
              </p:nvGrpSpPr>
              <p:grpSpPr>
                <a:xfrm>
                  <a:off x="2295720" y="4521960"/>
                  <a:ext cx="5668560" cy="1083240"/>
                  <a:chOff x="2295720" y="4521960"/>
                  <a:chExt cx="5668560" cy="1083240"/>
                </a:xfrm>
              </p:grpSpPr>
              <p:grpSp>
                <p:nvGrpSpPr>
                  <p:cNvPr id="590" name="Group 35"/>
                  <p:cNvGrpSpPr/>
                  <p:nvPr/>
                </p:nvGrpSpPr>
                <p:grpSpPr>
                  <a:xfrm>
                    <a:off x="2297160" y="4522680"/>
                    <a:ext cx="5667120" cy="1073880"/>
                    <a:chOff x="2297160" y="4522680"/>
                    <a:chExt cx="5667120" cy="1073880"/>
                  </a:xfrm>
                </p:grpSpPr>
                <p:sp>
                  <p:nvSpPr>
                    <p:cNvPr id="591" name="TextBox 37"/>
                    <p:cNvSpPr/>
                    <p:nvPr/>
                  </p:nvSpPr>
                  <p:spPr>
                    <a:xfrm>
                      <a:off x="2380320" y="4808880"/>
                      <a:ext cx="122796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, &amp; evaluate improved varieties of maize and grain legumes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2" name="TextBox 38"/>
                    <p:cNvSpPr/>
                    <p:nvPr/>
                  </p:nvSpPr>
                  <p:spPr>
                    <a:xfrm>
                      <a:off x="3750120" y="480888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 ISFT to improve plant nutrition, yields and agro-ecosystem resili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3" name="TextBox 39"/>
                    <p:cNvSpPr/>
                    <p:nvPr/>
                  </p:nvSpPr>
                  <p:spPr>
                    <a:xfrm>
                      <a:off x="5250240" y="4816800"/>
                      <a:ext cx="128592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&amp; promote land management options for sustainable intensifi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4" name="TextBox 40"/>
                    <p:cNvSpPr/>
                    <p:nvPr/>
                  </p:nvSpPr>
                  <p:spPr>
                    <a:xfrm>
                      <a:off x="6607440" y="480744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-harvest processing utilization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food safety improved nutrition outco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5" name="TextBox 41"/>
                    <p:cNvSpPr/>
                    <p:nvPr/>
                  </p:nvSpPr>
                  <p:spPr>
                    <a:xfrm>
                      <a:off x="2297160" y="4522680"/>
                      <a:ext cx="264636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96" name="Rectangle 36"/>
                  <p:cNvSpPr/>
                  <p:nvPr/>
                </p:nvSpPr>
                <p:spPr>
                  <a:xfrm>
                    <a:off x="2295720" y="4521960"/>
                    <a:ext cx="5668560" cy="1083240"/>
                  </a:xfrm>
                  <a:prstGeom prst="rect">
                    <a:avLst/>
                  </a:prstGeom>
                  <a:noFill/>
                  <a:ln w="9360">
                    <a:solidFill>
                      <a:srgbClr val="b3a2c7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7" name="Group 16"/>
                <p:cNvGrpSpPr/>
                <p:nvPr/>
              </p:nvGrpSpPr>
              <p:grpSpPr>
                <a:xfrm>
                  <a:off x="2265840" y="887400"/>
                  <a:ext cx="5698440" cy="997560"/>
                  <a:chOff x="2265840" y="887400"/>
                  <a:chExt cx="5698440" cy="997560"/>
                </a:xfrm>
              </p:grpSpPr>
              <p:sp>
                <p:nvSpPr>
                  <p:cNvPr id="598" name="Rectangle 32"/>
                  <p:cNvSpPr/>
                  <p:nvPr/>
                </p:nvSpPr>
                <p:spPr>
                  <a:xfrm>
                    <a:off x="2291040" y="1243440"/>
                    <a:ext cx="5673240" cy="641520"/>
                  </a:xfrm>
                  <a:prstGeom prst="rect">
                    <a:avLst/>
                  </a:prstGeom>
                  <a:solidFill>
                    <a:srgbClr val="c0504d"/>
                  </a:solidFill>
                  <a:ln w="25560">
                    <a:solidFill>
                      <a:srgbClr val="8c38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S</a:t>
                    </a: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mallholder farm households especially women and children move out of poverty, food and nutritional insecurity while maintaining and/or improving ecosystem stabi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TextBox 33"/>
                  <p:cNvSpPr/>
                  <p:nvPr/>
                </p:nvSpPr>
                <p:spPr>
                  <a:xfrm>
                    <a:off x="2265840" y="909720"/>
                    <a:ext cx="26780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ICRISAT Impac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Rectangle 34"/>
                  <p:cNvSpPr/>
                  <p:nvPr/>
                </p:nvSpPr>
                <p:spPr>
                  <a:xfrm>
                    <a:off x="2265840" y="887400"/>
                    <a:ext cx="5698440" cy="988200"/>
                  </a:xfrm>
                  <a:prstGeom prst="rect">
                    <a:avLst/>
                  </a:prstGeom>
                  <a:noFill/>
                  <a:ln w="9360">
                    <a:solidFill>
                      <a:srgbClr val="e6b9b8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1" name="Group 17"/>
                <p:cNvGrpSpPr/>
                <p:nvPr/>
              </p:nvGrpSpPr>
              <p:grpSpPr>
                <a:xfrm>
                  <a:off x="2297160" y="2161800"/>
                  <a:ext cx="5667120" cy="2085120"/>
                  <a:chOff x="2297160" y="2161800"/>
                  <a:chExt cx="5667120" cy="2085120"/>
                </a:xfrm>
              </p:grpSpPr>
              <p:grpSp>
                <p:nvGrpSpPr>
                  <p:cNvPr id="602" name="Group 18"/>
                  <p:cNvGrpSpPr/>
                  <p:nvPr/>
                </p:nvGrpSpPr>
                <p:grpSpPr>
                  <a:xfrm>
                    <a:off x="2305440" y="3234960"/>
                    <a:ext cx="5658840" cy="1011960"/>
                    <a:chOff x="2305440" y="3234960"/>
                    <a:chExt cx="5658840" cy="1011960"/>
                  </a:xfrm>
                </p:grpSpPr>
                <p:grpSp>
                  <p:nvGrpSpPr>
                    <p:cNvPr id="603" name="Group 25"/>
                    <p:cNvGrpSpPr/>
                    <p:nvPr/>
                  </p:nvGrpSpPr>
                  <p:grpSpPr>
                    <a:xfrm>
                      <a:off x="2305440" y="3234960"/>
                      <a:ext cx="5587560" cy="1002240"/>
                      <a:chOff x="2305440" y="3234960"/>
                      <a:chExt cx="5587560" cy="1002240"/>
                    </a:xfrm>
                  </p:grpSpPr>
                  <p:sp>
                    <p:nvSpPr>
                      <p:cNvPr id="604" name="TextBox 27"/>
                      <p:cNvSpPr/>
                      <p:nvPr/>
                    </p:nvSpPr>
                    <p:spPr>
                      <a:xfrm>
                        <a:off x="6723360" y="3592800"/>
                        <a:ext cx="11696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Government policy is supportive of investments in agricultur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TextBox 28"/>
                      <p:cNvSpPr/>
                      <p:nvPr/>
                    </p:nvSpPr>
                    <p:spPr>
                      <a:xfrm>
                        <a:off x="2356560" y="3594600"/>
                        <a:ext cx="13928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pportunities for improved access to seed and innovations support intensificatio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TextBox 29"/>
                      <p:cNvSpPr/>
                      <p:nvPr/>
                    </p:nvSpPr>
                    <p:spPr>
                      <a:xfrm>
                        <a:off x="5339880" y="3592800"/>
                        <a:ext cx="126720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Existing land tenure systems allows for farm to landscape level interventions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TextBox 30"/>
                      <p:cNvSpPr/>
                      <p:nvPr/>
                    </p:nvSpPr>
                    <p:spPr>
                      <a:xfrm>
                        <a:off x="3874320" y="3592800"/>
                        <a:ext cx="123228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Farmer organisations are functional &amp; supportive of the projec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TextBox 31"/>
                      <p:cNvSpPr/>
                      <p:nvPr/>
                    </p:nvSpPr>
                    <p:spPr>
                      <a:xfrm>
                        <a:off x="2305440" y="323496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Preconditions amongst in action sit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Rectangle 26"/>
                    <p:cNvSpPr/>
                    <p:nvPr/>
                  </p:nvSpPr>
                  <p:spPr>
                    <a:xfrm>
                      <a:off x="2318760" y="3234960"/>
                      <a:ext cx="5645520" cy="1011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9bbb59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10" name="Group 19"/>
                  <p:cNvGrpSpPr/>
                  <p:nvPr/>
                </p:nvGrpSpPr>
                <p:grpSpPr>
                  <a:xfrm>
                    <a:off x="2297160" y="2161800"/>
                    <a:ext cx="5667120" cy="999720"/>
                    <a:chOff x="2297160" y="2161800"/>
                    <a:chExt cx="5667120" cy="999720"/>
                  </a:xfrm>
                </p:grpSpPr>
                <p:grpSp>
                  <p:nvGrpSpPr>
                    <p:cNvPr id="611" name="Group 20"/>
                    <p:cNvGrpSpPr/>
                    <p:nvPr/>
                  </p:nvGrpSpPr>
                  <p:grpSpPr>
                    <a:xfrm>
                      <a:off x="2324880" y="2235240"/>
                      <a:ext cx="5639400" cy="926280"/>
                      <a:chOff x="2324880" y="2235240"/>
                      <a:chExt cx="5639400" cy="926280"/>
                    </a:xfrm>
                  </p:grpSpPr>
                  <p:sp>
                    <p:nvSpPr>
                      <p:cNvPr id="612" name="TextBox 22"/>
                      <p:cNvSpPr/>
                      <p:nvPr/>
                    </p:nvSpPr>
                    <p:spPr>
                      <a:xfrm>
                        <a:off x="2325240" y="2518920"/>
                        <a:ext cx="2783160" cy="6426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ncreased crop yields in maize-legume farming systems by up to 100% for cereals and 80% for legumes.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3" name="TextBox 23"/>
                      <p:cNvSpPr/>
                      <p:nvPr/>
                    </p:nvSpPr>
                    <p:spPr>
                      <a:xfrm>
                        <a:off x="5179320" y="2518920"/>
                        <a:ext cx="2784960" cy="5054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mproved land productivity in robust agro-ecologies and productive farming and crop systems</a:t>
                        </a:r>
                        <a:r>
                          <a:rPr b="1" lang="en-GB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4" name="TextBox 24"/>
                      <p:cNvSpPr/>
                      <p:nvPr/>
                    </p:nvSpPr>
                    <p:spPr>
                      <a:xfrm>
                        <a:off x="2324880" y="223524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frica Rising outcome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15" name="Rectangle 21"/>
                    <p:cNvSpPr/>
                    <p:nvPr/>
                  </p:nvSpPr>
                  <p:spPr>
                    <a:xfrm>
                      <a:off x="2297160" y="2161800"/>
                      <a:ext cx="5667120" cy="984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7e4bd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616" name="TextBox 11"/>
              <p:cNvGrpSpPr/>
              <p:nvPr/>
            </p:nvGrpSpPr>
            <p:grpSpPr>
              <a:xfrm>
                <a:off x="1743120" y="4488120"/>
                <a:ext cx="513720" cy="1889280"/>
                <a:chOff x="1743120" y="4488120"/>
                <a:chExt cx="513720" cy="1889280"/>
              </a:xfrm>
            </p:grpSpPr>
            <p:pic>
              <p:nvPicPr>
                <p:cNvPr id="617" name="TextBox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3120" y="4488120"/>
                  <a:ext cx="513720" cy="188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0800000">
                  <a:off x="1802880" y="4522680"/>
                  <a:ext cx="393480" cy="17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puts and activi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9" name="TextBox 12"/>
              <p:cNvGrpSpPr/>
              <p:nvPr/>
            </p:nvGrpSpPr>
            <p:grpSpPr>
              <a:xfrm>
                <a:off x="1797480" y="2640960"/>
                <a:ext cx="455040" cy="1374480"/>
                <a:chOff x="1797480" y="2640960"/>
                <a:chExt cx="455040" cy="1374480"/>
              </a:xfrm>
            </p:grpSpPr>
            <p:pic>
              <p:nvPicPr>
                <p:cNvPr id="620" name="TextBox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97480" y="2640960"/>
                  <a:ext cx="4410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 rot="10800000">
                  <a:off x="1859040" y="2677680"/>
                  <a:ext cx="3934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com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2" name="TextBox 13"/>
              <p:cNvGrpSpPr/>
              <p:nvPr/>
            </p:nvGrpSpPr>
            <p:grpSpPr>
              <a:xfrm>
                <a:off x="1797480" y="836640"/>
                <a:ext cx="455760" cy="1259280"/>
                <a:chOff x="1797480" y="836640"/>
                <a:chExt cx="455760" cy="1259280"/>
              </a:xfrm>
            </p:grpSpPr>
            <p:pic>
              <p:nvPicPr>
                <p:cNvPr id="623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97480" y="836640"/>
                  <a:ext cx="441000" cy="12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 rot="10800000">
                  <a:off x="1859760" y="874080"/>
                  <a:ext cx="393480" cy="114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Impact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25" name="Rectangle 5"/>
            <p:cNvSpPr/>
            <p:nvPr/>
          </p:nvSpPr>
          <p:spPr>
            <a:xfrm rot="16200000">
              <a:off x="7400520" y="5119200"/>
              <a:ext cx="2065320" cy="645840"/>
            </a:xfrm>
            <a:prstGeom prst="rect">
              <a:avLst/>
            </a:prstGeom>
            <a:gradFill rotWithShape="0">
              <a:gsLst>
                <a:gs pos="0">
                  <a:srgbClr val="660066">
                    <a:alpha val="48235"/>
                  </a:srgbClr>
                </a:gs>
                <a:gs pos="100000">
                  <a:srgbClr val="ffffff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6"/>
            <p:cNvSpPr/>
            <p:nvPr/>
          </p:nvSpPr>
          <p:spPr>
            <a:xfrm rot="16200000">
              <a:off x="7516440" y="5374800"/>
              <a:ext cx="178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here of influ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The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1908000" y="1557360"/>
            <a:ext cx="6610680" cy="4514760"/>
            <a:chOff x="1908000" y="1557360"/>
            <a:chExt cx="6610680" cy="4514760"/>
          </a:xfrm>
        </p:grpSpPr>
        <p:grpSp>
          <p:nvGrpSpPr>
            <p:cNvPr id="629" name="Group 5"/>
            <p:cNvGrpSpPr/>
            <p:nvPr/>
          </p:nvGrpSpPr>
          <p:grpSpPr>
            <a:xfrm>
              <a:off x="3742560" y="2099520"/>
              <a:ext cx="2922480" cy="3972600"/>
              <a:chOff x="3742560" y="2099520"/>
              <a:chExt cx="2922480" cy="3972600"/>
            </a:xfrm>
          </p:grpSpPr>
          <p:grpSp>
            <p:nvGrpSpPr>
              <p:cNvPr id="630" name="Group 18"/>
              <p:cNvGrpSpPr/>
              <p:nvPr/>
            </p:nvGrpSpPr>
            <p:grpSpPr>
              <a:xfrm>
                <a:off x="3742560" y="2099520"/>
                <a:ext cx="2922480" cy="3972600"/>
                <a:chOff x="3742560" y="2099520"/>
                <a:chExt cx="2922480" cy="3972600"/>
              </a:xfrm>
            </p:grpSpPr>
            <p:sp>
              <p:nvSpPr>
                <p:cNvPr id="631" name="Oval 26"/>
                <p:cNvSpPr/>
                <p:nvPr/>
              </p:nvSpPr>
              <p:spPr>
                <a:xfrm>
                  <a:off x="3742560" y="2099520"/>
                  <a:ext cx="2922480" cy="3972600"/>
                </a:xfrm>
                <a:prstGeom prst="ellipse">
                  <a:avLst/>
                </a:prstGeom>
                <a:solidFill>
                  <a:srgbClr val="e6b9b8"/>
                </a:soli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TextBox 27"/>
                <p:cNvSpPr/>
                <p:nvPr/>
              </p:nvSpPr>
              <p:spPr>
                <a:xfrm>
                  <a:off x="4177800" y="2204640"/>
                  <a:ext cx="19674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Agriculture development environ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Group 19"/>
              <p:cNvGrpSpPr/>
              <p:nvPr/>
            </p:nvGrpSpPr>
            <p:grpSpPr>
              <a:xfrm>
                <a:off x="4052160" y="3081600"/>
                <a:ext cx="2092680" cy="2990520"/>
                <a:chOff x="4052160" y="3081600"/>
                <a:chExt cx="2092680" cy="2990520"/>
              </a:xfrm>
            </p:grpSpPr>
            <p:grpSp>
              <p:nvGrpSpPr>
                <p:cNvPr id="634" name="Group 20"/>
                <p:cNvGrpSpPr/>
                <p:nvPr/>
              </p:nvGrpSpPr>
              <p:grpSpPr>
                <a:xfrm>
                  <a:off x="4052160" y="3081600"/>
                  <a:ext cx="2092680" cy="2990520"/>
                  <a:chOff x="4052160" y="3081600"/>
                  <a:chExt cx="2092680" cy="2990520"/>
                </a:xfrm>
              </p:grpSpPr>
              <p:sp>
                <p:nvSpPr>
                  <p:cNvPr id="635" name="Oval 24"/>
                  <p:cNvSpPr/>
                  <p:nvPr/>
                </p:nvSpPr>
                <p:spPr>
                  <a:xfrm>
                    <a:off x="4052160" y="3081600"/>
                    <a:ext cx="2092680" cy="2990520"/>
                  </a:xfrm>
                  <a:prstGeom prst="ellipse">
                    <a:avLst/>
                  </a:prstGeom>
                  <a:solidFill>
                    <a:srgbClr val="9bbb59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6" name="TextBox 25"/>
                  <p:cNvSpPr/>
                  <p:nvPr/>
                </p:nvSpPr>
                <p:spPr>
                  <a:xfrm>
                    <a:off x="4492800" y="3138480"/>
                    <a:ext cx="1212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NARES, IARCs and institu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7" name="Group 21"/>
                <p:cNvGrpSpPr/>
                <p:nvPr/>
              </p:nvGrpSpPr>
              <p:grpSpPr>
                <a:xfrm>
                  <a:off x="4315680" y="4005000"/>
                  <a:ext cx="1536480" cy="2067120"/>
                  <a:chOff x="4315680" y="4005000"/>
                  <a:chExt cx="1536480" cy="2067120"/>
                </a:xfrm>
              </p:grpSpPr>
              <p:sp>
                <p:nvSpPr>
                  <p:cNvPr id="638" name="Oval 22"/>
                  <p:cNvSpPr/>
                  <p:nvPr/>
                </p:nvSpPr>
                <p:spPr>
                  <a:xfrm>
                    <a:off x="4315680" y="4005000"/>
                    <a:ext cx="1536480" cy="20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7ccb"/>
                      </a:gs>
                      <a:gs pos="100000">
                        <a:srgbClr val="2c5d98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9" name="TextBox 23"/>
                  <p:cNvSpPr/>
                  <p:nvPr/>
                </p:nvSpPr>
                <p:spPr>
                  <a:xfrm>
                    <a:off x="4427640" y="4434840"/>
                    <a:ext cx="138132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Calibri"/>
                      </a:rPr>
                      <a:t>Farmers and their organiza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40" name="Group 6"/>
            <p:cNvGrpSpPr/>
            <p:nvPr/>
          </p:nvGrpSpPr>
          <p:grpSpPr>
            <a:xfrm>
              <a:off x="1908000" y="1557360"/>
              <a:ext cx="1834560" cy="1275120"/>
              <a:chOff x="1908000" y="1557360"/>
              <a:chExt cx="1834560" cy="1275120"/>
            </a:xfrm>
          </p:grpSpPr>
          <p:sp>
            <p:nvSpPr>
              <p:cNvPr id="641" name="Rounded Rectangle 16"/>
              <p:cNvSpPr/>
              <p:nvPr/>
            </p:nvSpPr>
            <p:spPr>
              <a:xfrm>
                <a:off x="1908000" y="1557360"/>
                <a:ext cx="183456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Box 17"/>
              <p:cNvSpPr/>
              <p:nvPr/>
            </p:nvSpPr>
            <p:spPr>
              <a:xfrm>
                <a:off x="1999440" y="1557360"/>
                <a:ext cx="16506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ncluding policy institutions, infrastructure, human and natural resourc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7"/>
            <p:cNvGrpSpPr/>
            <p:nvPr/>
          </p:nvGrpSpPr>
          <p:grpSpPr>
            <a:xfrm>
              <a:off x="6665040" y="3622680"/>
              <a:ext cx="1853640" cy="1275120"/>
              <a:chOff x="6665040" y="3622680"/>
              <a:chExt cx="1853640" cy="1275120"/>
            </a:xfrm>
          </p:grpSpPr>
          <p:sp>
            <p:nvSpPr>
              <p:cNvPr id="644" name="Rounded Rectangle 14"/>
              <p:cNvSpPr/>
              <p:nvPr/>
            </p:nvSpPr>
            <p:spPr>
              <a:xfrm>
                <a:off x="6683400" y="3622680"/>
                <a:ext cx="183528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TextBox 15"/>
              <p:cNvSpPr/>
              <p:nvPr/>
            </p:nvSpPr>
            <p:spPr>
              <a:xfrm>
                <a:off x="6665040" y="3729240"/>
                <a:ext cx="17960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R&amp;D stakeholders, and their communities including NGO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1908000" y="4910760"/>
              <a:ext cx="1742760" cy="851760"/>
              <a:chOff x="1908000" y="4910760"/>
              <a:chExt cx="1742760" cy="851760"/>
            </a:xfrm>
          </p:grpSpPr>
          <p:sp>
            <p:nvSpPr>
              <p:cNvPr id="647" name="Rounded Rectangle 12"/>
              <p:cNvSpPr/>
              <p:nvPr/>
            </p:nvSpPr>
            <p:spPr>
              <a:xfrm>
                <a:off x="1908000" y="4910760"/>
                <a:ext cx="1742760" cy="85176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TextBox 13"/>
              <p:cNvSpPr/>
              <p:nvPr/>
            </p:nvSpPr>
            <p:spPr>
              <a:xfrm>
                <a:off x="1995120" y="4911120"/>
                <a:ext cx="1568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Ultimate beneficiaries, the farmer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649" name="Straight Arrow Connector 9"/>
            <p:cNvCxnSpPr>
              <a:endCxn id="632" idx="1"/>
            </p:cNvCxnSpPr>
            <p:nvPr/>
          </p:nvCxnSpPr>
          <p:spPr>
            <a:xfrm>
              <a:off x="3743280" y="1976040"/>
              <a:ext cx="435600" cy="50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0" name="Straight Arrow Connector 10"/>
            <p:cNvCxnSpPr>
              <a:stCxn id="644" idx="1"/>
            </p:cNvCxnSpPr>
            <p:nvPr/>
          </p:nvCxnSpPr>
          <p:spPr>
            <a:xfrm flipH="1" flipV="1">
              <a:off x="5962320" y="4179600"/>
              <a:ext cx="721440" cy="81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1" name="Straight Arrow Connector 11"/>
            <p:cNvCxnSpPr>
              <a:stCxn id="647" idx="3"/>
            </p:cNvCxnSpPr>
            <p:nvPr/>
          </p:nvCxnSpPr>
          <p:spPr>
            <a:xfrm flipV="1">
              <a:off x="3650760" y="5038200"/>
              <a:ext cx="842040" cy="299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896840" y="-27000"/>
            <a:ext cx="699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5c29"/>
                </a:solidFill>
                <a:latin typeface="Calibri"/>
              </a:rPr>
              <a:t>Intensifica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Content Placeholder 5" descr=""/>
          <p:cNvPicPr/>
          <p:nvPr/>
        </p:nvPicPr>
        <p:blipFill>
          <a:blip r:embed="rId1"/>
          <a:stretch/>
        </p:blipFill>
        <p:spPr>
          <a:xfrm>
            <a:off x="2620800" y="798480"/>
            <a:ext cx="5846760" cy="4359240"/>
          </a:xfrm>
          <a:prstGeom prst="rect">
            <a:avLst/>
          </a:prstGeom>
          <a:ln w="0">
            <a:noFill/>
          </a:ln>
        </p:spPr>
      </p:pic>
      <p:sp>
        <p:nvSpPr>
          <p:cNvPr id="654" name="Diagonal Stripe 7"/>
          <p:cNvSpPr/>
          <p:nvPr/>
        </p:nvSpPr>
        <p:spPr>
          <a:xfrm rot="13387200">
            <a:off x="3759120" y="3857760"/>
            <a:ext cx="3570480" cy="3246480"/>
          </a:xfrm>
          <a:custGeom>
            <a:avLst/>
            <a:gdLst>
              <a:gd name="textAreaLeft" fmla="*/ 0 w 3570480"/>
              <a:gd name="textAreaRight" fmla="*/ 3570840 w 357048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3570288" h="3246438">
                <a:moveTo>
                  <a:pt x="0" y="1623219"/>
                </a:moveTo>
                <a:lnTo>
                  <a:pt x="1785144" y="0"/>
                </a:lnTo>
                <a:lnTo>
                  <a:pt x="3570288" y="0"/>
                </a:lnTo>
                <a:lnTo>
                  <a:pt x="0" y="3246438"/>
                </a:lnTo>
                <a:lnTo>
                  <a:pt x="0" y="1623219"/>
                </a:lnTo>
                <a:close/>
              </a:path>
            </a:pathLst>
          </a:cu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3614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4067280" y="55897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d agricultural productivity and nutrition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Up-Down Arrow 9"/>
          <p:cNvSpPr/>
          <p:nvPr/>
        </p:nvSpPr>
        <p:spPr>
          <a:xfrm>
            <a:off x="5435640" y="5084640"/>
            <a:ext cx="216000" cy="360360"/>
          </a:xfrm>
          <a:prstGeom prst="upDown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Straight Arrow Connector 2"/>
          <p:cNvCxnSpPr/>
          <p:nvPr/>
        </p:nvCxnSpPr>
        <p:spPr>
          <a:xfrm flipV="1">
            <a:off x="4643280" y="3859920"/>
            <a:ext cx="43416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8" name="Straight Arrow Connector 8"/>
          <p:cNvCxnSpPr/>
          <p:nvPr/>
        </p:nvCxnSpPr>
        <p:spPr>
          <a:xfrm flipH="1" flipV="1">
            <a:off x="5866920" y="3933360"/>
            <a:ext cx="434160" cy="21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9" name="Straight Arrow Connector 10"/>
          <p:cNvCxnSpPr/>
          <p:nvPr/>
        </p:nvCxnSpPr>
        <p:spPr>
          <a:xfrm>
            <a:off x="5435280" y="2852280"/>
            <a:ext cx="108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IZeledon</cp:lastModifiedBy>
  <dcterms:modified xsi:type="dcterms:W3CDTF">2013-05-29T06:41:17Z</dcterms:modified>
  <cp:revision>2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